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1F7-BCBF-4913-AC2E-97A4EB81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3C7-3A22-4844-A882-4E3D1CE7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7AC-9A0A-4F20-BFBD-422FC539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4FF-97E1-4705-9729-B26D3471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0AB-D1ED-4712-99CB-6569F0B6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E65-C93E-4282-B364-710679BF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975-B3AF-470C-98F1-856C3834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C32-E0D1-43C9-81C5-A51741E4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87D-AE26-49E9-9025-B6A4A962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8AC-4B46-4F37-85BA-942CCAB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BD8-D331-47DB-ABE1-E74155C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820-D50C-4954-BE29-053BA779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4E6F-41BD-4B95-A3DB-6AC35BDF9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66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Taisnleņķa trijstūris un tā elementu aprēķināša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12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14600" y="1905120"/>
            <a:ext cx="0" cy="2438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5400" y="29455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1520" y="3013560"/>
            <a:ext cx="173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ctg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32560" y="336240"/>
            <a:ext cx="381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240" y="209916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3386160"/>
            <a:ext cx="2228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lv-LV" sz="40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=bcos</a:t>
            </a:r>
            <a:r>
              <a:rPr b="0" lang="lv-LV" sz="4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4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H="1">
            <a:off x="2514240" y="3657600"/>
            <a:ext cx="106668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1480" y="3402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3733920"/>
            <a:ext cx="258840" cy="152280"/>
          </a:xfrm>
          <a:custGeom>
            <a:avLst/>
            <a:gdLst/>
            <a:ahLst/>
            <a:rect l="l" t="t" r="r" b="b"/>
            <a:pathLst>
              <a:path w="163" h="96">
                <a:moveTo>
                  <a:pt x="0" y="0"/>
                </a:moveTo>
                <a:lnTo>
                  <a:pt x="48" y="96"/>
                </a:lnTo>
                <a:lnTo>
                  <a:pt x="163" y="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572000" y="2209680"/>
                <a:ext cx="3124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578840" y="564840"/>
            <a:ext cx="3710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191120" y="1371600"/>
                <a:ext cx="419076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ctg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84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 flipV="1">
            <a:off x="2514240" y="304812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05040" y="3402720"/>
            <a:ext cx="52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6576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51800" y="549000"/>
            <a:ext cx="364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95680" y="4724280"/>
                <a:ext cx="3657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343400" y="1371600"/>
                <a:ext cx="4114800" cy="24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2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2514240" y="1904760"/>
            <a:ext cx="762120" cy="2438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4160" y="3402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581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71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4520" y="549000"/>
            <a:ext cx="3679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495680"/>
                <a:ext cx="35049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5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505240" y="3103560"/>
            <a:ext cx="776160" cy="1235160"/>
          </a:xfrm>
          <a:custGeom>
            <a:avLst/>
            <a:gdLst/>
            <a:ahLst/>
            <a:rect l="l" t="t" r="r" b="b"/>
            <a:pathLst>
              <a:path w="489" h="778">
                <a:moveTo>
                  <a:pt x="0" y="778"/>
                </a:moveTo>
                <a:lnTo>
                  <a:pt x="489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8480" y="3097800"/>
            <a:ext cx="5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95480" y="25905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0532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264680"/>
            <a:ext cx="4876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- apvilktas riņķa līnijas rādi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52880" y="3962520"/>
                <a:ext cx="23623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3789360" y="228240"/>
            <a:ext cx="3579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52880" y="1828800"/>
                <a:ext cx="15591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9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505240" y="3510000"/>
            <a:ext cx="1500120" cy="811080"/>
          </a:xfrm>
          <a:custGeom>
            <a:avLst/>
            <a:gdLst/>
            <a:ahLst/>
            <a:rect l="l" t="t" r="r" b="b"/>
            <a:pathLst>
              <a:path w="945" h="511">
                <a:moveTo>
                  <a:pt x="0" y="0"/>
                </a:moveTo>
                <a:lnTo>
                  <a:pt x="945" y="511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69920" y="32504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505320" y="41148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581280" y="38098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343400" y="1600200"/>
                <a:ext cx="42670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876920" y="4572000"/>
                <a:ext cx="26668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0600" y="320400"/>
            <a:ext cx="3571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343400" y="1295280"/>
                <a:ext cx="3352680" cy="27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tg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3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514600" y="1905120"/>
            <a:ext cx="714240" cy="2415960"/>
          </a:xfrm>
          <a:custGeom>
            <a:avLst/>
            <a:gdLst/>
            <a:ahLst/>
            <a:rect l="l" t="t" r="r" b="b"/>
            <a:pathLst>
              <a:path w="450" h="1522">
                <a:moveTo>
                  <a:pt x="0" y="0"/>
                </a:moveTo>
                <a:lnTo>
                  <a:pt x="450" y="152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56040" y="32504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62680" y="243756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236124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50600" y="396360"/>
            <a:ext cx="3571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800600" y="4114800"/>
                <a:ext cx="2428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69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514600" y="3157560"/>
            <a:ext cx="784080" cy="1185840"/>
          </a:xfrm>
          <a:custGeom>
            <a:avLst/>
            <a:gdLst/>
            <a:ahLst/>
            <a:rect l="l" t="t" r="r" b="b"/>
            <a:pathLst>
              <a:path w="494" h="747">
                <a:moveTo>
                  <a:pt x="494" y="0"/>
                </a:moveTo>
                <a:lnTo>
                  <a:pt x="0" y="74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74440" y="32504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1148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680" y="38862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29560" y="285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90520" y="1599120"/>
            <a:ext cx="45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DA=180°-45 °-(90 °-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)=45 °+ 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114800" y="2362320"/>
                <a:ext cx="4191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4052880" y="396360"/>
            <a:ext cx="3773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lv-LV" sz="2800" spc="-1" strike="noStrike" baseline="-25000">
                <a:solidFill>
                  <a:srgbClr val="ff3300"/>
                </a:solidFill>
                <a:latin typeface="Times New Roman"/>
              </a:rPr>
              <a:t>c 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- 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724280" y="457200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08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189680" y="1539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=a+b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267080" y="2438280"/>
                <a:ext cx="342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343400" y="3809880"/>
                <a:ext cx="3467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4115880" y="42588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1905120"/>
            <a:ext cx="1523880" cy="2438280"/>
          </a:xfrm>
          <a:custGeom>
            <a:avLst/>
            <a:gdLst/>
            <a:ahLst/>
            <a:rect l="l" t="t" r="r" b="b"/>
            <a:pathLst>
              <a:path w="960" h="1536">
                <a:moveTo>
                  <a:pt x="0" y="1536"/>
                </a:moveTo>
                <a:lnTo>
                  <a:pt x="0" y="0"/>
                </a:lnTo>
                <a:lnTo>
                  <a:pt x="960" y="1536"/>
                </a:lnTo>
                <a:lnTo>
                  <a:pt x="0" y="1536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43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4267080" y="1600200"/>
                <a:ext cx="2057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2590920"/>
                <a:ext cx="313380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4343760" y="533160"/>
            <a:ext cx="206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105520" y="4273560"/>
                <a:ext cx="327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581280" y="609480"/>
            <a:ext cx="4876920" cy="1619640"/>
            <a:chOff x="3581280" y="609480"/>
            <a:chExt cx="4876920" cy="1619640"/>
          </a:xfrm>
        </p:grpSpPr>
        <p:sp>
          <p:nvSpPr>
            <p:cNvPr id="43" name=""/>
            <p:cNvSpPr/>
            <p:nvPr/>
          </p:nvSpPr>
          <p:spPr>
            <a:xfrm>
              <a:off x="4724280" y="657000"/>
              <a:ext cx="3733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ABC, </a:t>
              </a: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C=90</a:t>
              </a:r>
              <a:r>
                <a:rPr b="0" lang="lv-LV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 un </a:t>
              </a: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8128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ot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733920" y="2666880"/>
            <a:ext cx="152388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33920" y="1202400"/>
            <a:ext cx="48765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-l</a:t>
            </a:r>
            <a:r>
              <a:rPr b="1" lang="lv-LV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BO-lc OK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 ,OK - r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, (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KBO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O=90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 vienādsānu, BK=OK=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=b-r un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K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800600" y="2590920"/>
                <a:ext cx="2895480" cy="24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8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79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V="1">
            <a:off x="2286000" y="342900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285640" y="3505320"/>
            <a:ext cx="15238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3276720"/>
            <a:ext cx="1079640" cy="107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19520" y="38098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0600" y="388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4191120"/>
            <a:ext cx="152640" cy="1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02560" y="304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46720" y="347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11080" y="426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648320" y="5094360"/>
                <a:ext cx="25905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3657960" y="349920"/>
            <a:ext cx="202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21320" y="167472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pvilktas riņķa līnijas centrs atrodas uz hipotenūzas viduspunkt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76520" y="1523880"/>
            <a:ext cx="2133000" cy="3202920"/>
            <a:chOff x="1676520" y="1523880"/>
            <a:chExt cx="2133000" cy="3202920"/>
          </a:xfrm>
        </p:grpSpPr>
        <p:sp>
          <p:nvSpPr>
            <p:cNvPr id="721" name=""/>
            <p:cNvSpPr/>
            <p:nvPr/>
          </p:nvSpPr>
          <p:spPr>
            <a:xfrm>
              <a:off x="1981080" y="1905120"/>
              <a:ext cx="152352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42670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81080" y="419112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4600" y="426708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2895480"/>
              <a:ext cx="45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flipH="1">
            <a:off x="2666880" y="3124080"/>
            <a:ext cx="1526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95280" y="1676520"/>
            <a:ext cx="289584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981080" y="3123720"/>
            <a:ext cx="76212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288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1905120"/>
            <a:ext cx="762120" cy="1218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62320" y="259056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97180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5511960" y="3313080"/>
                <a:ext cx="10904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4649400" y="53316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141880" y="4724280"/>
                <a:ext cx="1982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1905120"/>
            <a:ext cx="1524240" cy="2438280"/>
          </a:xfrm>
          <a:prstGeom prst="rtTriangl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523880"/>
            <a:ext cx="2133360" cy="3202920"/>
            <a:chOff x="1676520" y="1523880"/>
            <a:chExt cx="2133360" cy="3202920"/>
          </a:xfrm>
        </p:grpSpPr>
        <p:sp>
          <p:nvSpPr>
            <p:cNvPr id="762" name=""/>
            <p:cNvSpPr/>
            <p:nvPr/>
          </p:nvSpPr>
          <p:spPr>
            <a:xfrm>
              <a:off x="342900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81080" y="419112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146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7652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666880" y="3124080"/>
              <a:ext cx="15264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191120" y="1447920"/>
                <a:ext cx="2871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4200840" y="533160"/>
            <a:ext cx="20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800600" y="3429000"/>
                <a:ext cx="19828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2340360" y="342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0968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937040" y="1963800"/>
                <a:ext cx="1768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7920" y="76104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52880" y="3733920"/>
                <a:ext cx="1752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0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51520" y="1966320"/>
            <a:ext cx="12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3720" y="68472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4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22720" y="2826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11800" y="1905120"/>
                <a:ext cx="18748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917160" y="761040"/>
            <a:ext cx="2044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33800" y="3581280"/>
                <a:ext cx="18669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021720" y="989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0320" y="29710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94560" y="91332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0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8160" y="17676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4560" y="60840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800600" y="1600200"/>
                <a:ext cx="236232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5800" y="198036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4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645280" y="3808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7880" y="883080"/>
            <a:ext cx="197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508640" y="3346560"/>
                <a:ext cx="1252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69720" y="913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7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2514240" y="4343400"/>
            <a:ext cx="1523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81880" y="3859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14880" y="2175120"/>
            <a:ext cx="98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26680" y="564840"/>
            <a:ext cx="3774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6:20:02Z</dcterms:created>
  <dc:creator>Solo</dc:creator>
  <dc:description/>
  <dc:language>en-US</dc:language>
  <cp:lastModifiedBy>Aira</cp:lastModifiedBy>
  <cp:lastPrinted>2001-02-19T15:49:46Z</cp:lastPrinted>
  <dcterms:modified xsi:type="dcterms:W3CDTF">2010-07-15T13:09:39Z</dcterms:modified>
  <cp:revision>18</cp:revision>
  <dc:subject/>
  <dc:title>1. uzdevums</dc:title>
</cp:coreProperties>
</file>